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48880" y="4761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4888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840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276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7628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4888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276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7628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48880" y="4005000"/>
            <a:ext cx="7434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7434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82800" y="981000"/>
            <a:ext cx="723888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4888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48880" y="4005000"/>
            <a:ext cx="74343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840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48880" y="4761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48880" y="4761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888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840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6276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76280" y="4005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4888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6276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76280" y="4761000"/>
            <a:ext cx="239364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4000"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743436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82800" y="981000"/>
            <a:ext cx="7238880" cy="91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4888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8400" y="4761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888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8400" y="4005000"/>
            <a:ext cx="362772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8880" y="4761000"/>
            <a:ext cx="7434360" cy="6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00000" y="1628640"/>
            <a:ext cx="814248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-25596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4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16640" indent="-246600">
              <a:lnSpc>
                <a:spcPct val="90000"/>
              </a:lnSpc>
              <a:spcBef>
                <a:spcPts val="1400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01480" indent="-257400">
              <a:lnSpc>
                <a:spcPct val="90000"/>
              </a:lnSpc>
              <a:spcBef>
                <a:spcPts val="1400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86680" indent="-257400">
              <a:lnSpc>
                <a:spcPct val="90000"/>
              </a:lnSpc>
              <a:spcBef>
                <a:spcPts val="1400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86680" indent="-2574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86680" indent="-25740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8067960" cy="56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529400" y="6620040"/>
            <a:ext cx="15019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blong.co.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82800" y="981000"/>
            <a:ext cx="7238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06440" indent="-19080" algn="ctr">
              <a:lnSpc>
                <a:spcPct val="90000"/>
              </a:lnSpc>
              <a:spcBef>
                <a:spcPts val="1225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7080" indent="-249120" algn="ctr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15880" indent="-260280" algn="ctr">
              <a:lnSpc>
                <a:spcPct val="90000"/>
              </a:lnSpc>
              <a:spcBef>
                <a:spcPts val="1225"/>
              </a:spcBef>
              <a:buClr>
                <a:srgbClr val="33cc33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123920" indent="420840" algn="ctr">
              <a:lnSpc>
                <a:spcPct val="90000"/>
              </a:lnSpc>
              <a:spcBef>
                <a:spcPts val="1225"/>
              </a:spcBef>
              <a:buClr>
                <a:srgbClr val="0095e8"/>
              </a:buClr>
              <a:buSzPct val="80000"/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123920" indent="42084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632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.NET Interoperability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.NET ↔ Win3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357336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Brian Long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raining &amp; Consultancy Services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 Narrow"/>
              </a:rPr>
              <a:t>http://www.blong.co.uk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in32 client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.NET meth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142480" cy="273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ittle known mechanism (Inverse PInvoke), primarily discussed i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Inside Microsoft .NET IL Assembler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Serge Lidin, Microsoft Pr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nvolves </a:t>
            </a:r>
            <a:r>
              <a:rPr b="1" i="1" lang="en-GB" sz="3000" spc="-1" strike="noStrike">
                <a:solidFill>
                  <a:srgbClr val="ffffff"/>
                </a:solidFill>
                <a:latin typeface="Arial"/>
              </a:rPr>
              <a:t>creative round-tripping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to expose assembly method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in32 client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.NET meth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4764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Round-tripping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Disassemble a compiled assembly to an IL source file with the .NET disassembler: ildasm.ex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4764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Modify the IL code, or add additional IL files, possibly to include features not supported by the original compi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SzPct val="90000"/>
              <a:buFont typeface="Arial"/>
              <a:buAutoNum type="arabicParenR" startAt="2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Reassemble the IL code with the .NET assembler: ilasm.ex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in32 client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.NET meth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42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4764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reative round-tripping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Disassemble a compiled assembly to an IL source file with the .NET disassembler: ildasm.ex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Modify the IL code, or add additional IL files, possibly to include features not supported by the original compi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SzPct val="90000"/>
              <a:buFont typeface="Arial"/>
              <a:buAutoNum type="arabicParenR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Reassemble the IL code with the .NET assembler: ilasm.ex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in32 client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.NET meth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3212640"/>
            <a:ext cx="814212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t’s see some round tripp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in32 client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.NET meth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142480" cy="43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L modifications to export .NET method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Modify IL manifes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137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Modify .corflags directive to cater for XP iss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137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Declare a v-table fixup tab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137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Declare data space for the v-table fixup tabl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Modify implementations of methods to be exported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59200">
              <a:lnSpc>
                <a:spcPct val="90000"/>
              </a:lnSpc>
              <a:spcBef>
                <a:spcPts val="1137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Mark each method with the .vtentry and .export directiv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in32 client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.NET meth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27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L manifest (original)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884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.module dotNetAssembly.d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.imagebase 0x00400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.subsystem 0x0000000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.file alignment 5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.corflags 0x0000000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in32 client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.NET meth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39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L manifest (modified for two exports)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884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.module dotNetAssembly.d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.imagebase 0x00400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.subsystem 0x0000000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.file alignment 51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.corflags 0x0000000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.data VT_01 = int32[2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44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.vtfixup [2] int32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 fromunmanaged at VT_0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in32 client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.NET meth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wo IL methods (original)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method public static void  DoSomething(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32 I) cil manag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maxstack 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L_0000:  ldarg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/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t of code omitted for bre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// end of method Unit::DoSometh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method public static void  DoSomethingElse(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in] string Msg) cil manag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maxstack 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L_0000:  ldarg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/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t of code omitted for bre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// end of method Unit::DoSomethingEl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in32 client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.NET meth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5596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wo IL methods (exported)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method public static void  DoSomething(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t32 I) cil manag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.vtentry 1: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.export [1] as DoSometh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maxstack 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L_0000:  ldarg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/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t of code omitted for bre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// end of method Unit::DoSometh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method public static void  DoSomethingElse(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in] string Msg) cil manag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.vtentry 1: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.export [2] as DoSomethingEl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maxstack 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L_0000:  ldarg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//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t of code omitted for brev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0">
              <a:lnSpc>
                <a:spcPct val="7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// end of method Unit::DoSomethingEl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in32 client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.NET meth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142480" cy="37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otential maintenance issue: must modify IL generated from disassembling every built execu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Workaround is a utility to automate the process (perhaps a command-line utility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One such utility (almost) is mme.exe (Managed Method Exporter)</a:t>
            </a:r>
            <a:r>
              <a:rPr b="1" lang="en-GB" sz="30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mme.exe is actually a simple GUI a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6237360"/>
            <a:ext cx="66963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baseline="30000">
                <a:solidFill>
                  <a:srgbClr val="ffffff"/>
                </a:solidFill>
                <a:latin typeface="Arial"/>
              </a:rPr>
              <a:t>*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supplied with source in the files that accompany this pa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Interoperability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142480" cy="36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hy Interoperabilit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he .NET platform is ne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he Win32 platform is well establish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No one wants to start from scrat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Use of existing code in .NET applications will be essenti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nteroperability goes both way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3573360"/>
            <a:ext cx="576108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58840" indent="-258840">
              <a:lnSpc>
                <a:spcPct val="90000"/>
              </a:lnSpc>
              <a:spcBef>
                <a:spcPts val="1488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Are there any questions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26920" y="907560"/>
            <a:ext cx="3809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Brian L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32000" y="2060280"/>
            <a:ext cx="632448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Freelance Delphi, C++Builder &amp; Kylix problem-solver, trainer and autho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88480" y="3933720"/>
            <a:ext cx="355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ttp://www.blong.co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ian@blong.co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nteroperability Op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00000" y="1607760"/>
            <a:ext cx="81424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4764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.NET clients can us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1312"/>
              </a:spcBef>
              <a:buClr>
                <a:srgbClr val="ffff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Win32 DLL exports (PInvoke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SzPct val="9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Win32 COM server objects (RCW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4764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Win32 clients can us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1312"/>
              </a:spcBef>
              <a:buClr>
                <a:srgbClr val="ffff00"/>
              </a:buClr>
              <a:buSzPct val="90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</a:rPr>
              <a:t>.NET method exports (Inverse PInvoke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4764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Win32 COM clients can us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47640" indent="-647640">
              <a:lnSpc>
                <a:spcPct val="90000"/>
              </a:lnSpc>
              <a:spcBef>
                <a:spcPts val="1312"/>
              </a:spcBef>
              <a:buClr>
                <a:srgbClr val="ffffff"/>
              </a:buClr>
              <a:buSzPct val="9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.NET objects (CCW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4764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General Poi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18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Win32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  <a:ea typeface="Arial"/>
              </a:rPr>
              <a:t>↔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.NET requires marshaling of parame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his interoperability requires some proxy / thunk / wrapper to be in place (automated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DLL (PInvok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latform Invocation Service, usually referred to as Platform Invoke, or simply PInvoke (or P/Invoke)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Courier New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ourier New"/>
              </a:rPr>
              <a:t>DllImport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attribute (from System.Runtime.InteropServices) is needed for routines with text parame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tandard Delphi DLL import syntax works otherwise (uses </a:t>
            </a:r>
            <a:r>
              <a:rPr b="1" lang="en-GB" sz="3000" spc="-1" strike="noStrike">
                <a:solidFill>
                  <a:srgbClr val="ffffff"/>
                </a:solidFill>
                <a:latin typeface="Courier New"/>
              </a:rPr>
              <a:t>DllImport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behind the scenes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DLL (PInvok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49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>
              <a:lnSpc>
                <a:spcPct val="80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//Win32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58840" indent="0">
              <a:lnSpc>
                <a:spcPct val="8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procedure FooA(Msg: PChar); cdecl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58840" indent="0">
              <a:lnSpc>
                <a:spcPct val="8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begi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58840" indent="0">
              <a:lnSpc>
                <a:spcPct val="8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MessageBox(0, Msg, 'Foo',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  MB_OK or MB_ICONQUESTION)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58840" indent="0">
              <a:lnSpc>
                <a:spcPct val="8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end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58840" indent="0">
              <a:lnSpc>
                <a:spcPct val="8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58840" indent="0">
              <a:lnSpc>
                <a:spcPct val="8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//.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58840" indent="0">
              <a:lnSpc>
                <a:spcPct val="8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[DllImport('bar.dll',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58840" indent="0">
              <a:lnSpc>
                <a:spcPct val="8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EntryPoint = 'FooA',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58840" indent="0">
              <a:lnSpc>
                <a:spcPct val="8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CharSet = CharSet.Ansi,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58840" indent="0">
              <a:lnSpc>
                <a:spcPct val="8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CallingConvention =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58840" indent="0">
              <a:lnSpc>
                <a:spcPct val="8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CallingConvention.Cdecl)]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58840" indent="0">
              <a:lnSpc>
                <a:spcPct val="8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procedure Foo(const Msg: String); external;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DLL (PInvok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280" y="3212640"/>
            <a:ext cx="814212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t’s see some 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DLL (PInvok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8142480" cy="28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-25884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he big issue with PInvoke is ensuring the parameters are marshaled across correctl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GB" sz="3000" spc="-1" strike="noStrike">
                <a:solidFill>
                  <a:srgbClr val="ffffff"/>
                </a:solidFill>
                <a:latin typeface="Courier New"/>
              </a:rPr>
              <a:t>MarshalAs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attribute can help when the default is inappropriat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58840" indent="-258840">
              <a:lnSpc>
                <a:spcPct val="90000"/>
              </a:lnSpc>
              <a:spcBef>
                <a:spcPts val="1312"/>
              </a:spcBef>
              <a:buClr>
                <a:srgbClr val="0095e8"/>
              </a:buClr>
              <a:buSzPct val="90000"/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Other issues surround Win32 error codes and HResult valu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74840"/>
            <a:ext cx="8142480" cy="51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DLL (PInvoke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3212640"/>
            <a:ext cx="8142120" cy="4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884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t’s see some 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22:52:42Z</dcterms:created>
  <dc:creator>Brian Long</dc:creator>
  <dc:description/>
  <dc:language>en-US</dc:language>
  <cp:lastModifiedBy>Brian Long</cp:lastModifiedBy>
  <cp:lastPrinted>1998-03-12T04:44:47Z</cp:lastPrinted>
  <dcterms:modified xsi:type="dcterms:W3CDTF">2003-01-13T15:22:53Z</dcterms:modified>
  <cp:revision>144</cp:revision>
  <dc:subject>Discussion of the PInvoke and Inverse4 Pinvoke mechanisms that allow Win32 and .NET code to interact</dc:subject>
  <dc:title>.NET Interoperability: .NET &lt;-&gt; Win32</dc:title>
</cp:coreProperties>
</file>