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9344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344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296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732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2084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9344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732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2084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9344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26640" y="981000"/>
            <a:ext cx="723924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9344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9344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0296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9344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9344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9344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0296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0732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2084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9344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0732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2084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26640" y="981000"/>
            <a:ext cx="723924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9344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296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344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296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9344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00000" y="1628640"/>
            <a:ext cx="81424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6640" indent="-24660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1480" indent="-257400">
              <a:lnSpc>
                <a:spcPct val="90000"/>
              </a:lnSpc>
              <a:spcBef>
                <a:spcPts val="1400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86680" indent="-25740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86680" indent="-2574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86680" indent="-2574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8067960" cy="56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24720" y="6597720"/>
            <a:ext cx="15019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blong.co.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26640" y="981000"/>
            <a:ext cx="7239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6440" indent="-19080" algn="ctr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7080" indent="-249120" algn="ctr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15880" indent="-260280" algn="ctr">
              <a:lnSpc>
                <a:spcPct val="90000"/>
              </a:lnSpc>
              <a:spcBef>
                <a:spcPts val="1225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123920" indent="420840" algn="ctr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280" y="814320"/>
            <a:ext cx="86043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.NET Internals: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Profiling .NET Applic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95480" y="3335040"/>
            <a:ext cx="74167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Brian Long</a:t>
            </a:r>
            <a:br>
              <a:rPr sz="3800"/>
            </a:b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raining &amp; Consultancy Services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 Narrow"/>
              </a:rPr>
              <a:t>http://www.blong.co.u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Profiler Writing Backgroun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 is dead!!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M equals legacy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f you don’t know COM, don’t start learning it no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r, .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NET Profilers are COM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es, you must use COM to do .NET profi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Implem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8142480" cy="57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 avoid undue interaction with profiled code, profilers are in-proc COM ob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 implement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ICorProfilerCallb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gister the serv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t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COR_ENABLE_PROFIL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t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COR_PROFIL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the ClassID or ProgID of your COM ob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r profiler is loaded into subsequent .NET applications by the CL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Implem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1424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CorProfilerCallback.Initializ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called on CLR start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ere you specify which events you w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re are 67 event methods that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be cal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re are 3 of these events that will not be called in .NET 1.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me events you can enable and disable at run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me events are immu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CorProfilerCallback.Shutdow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called on CLR shutd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Implem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814248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ICorProfilerCallbac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defined in corprof.idl in the Framework SDK include directory (and in corprof.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69 methods declared in IDL (or C++), including </a:t>
            </a: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nitializ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Shutdow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o type library support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Delphi hacker’s life is not always pleasant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Implem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ICorProfilerCallbac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 called in a free-threaded manner, so be thread-saf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se a critical section to prevent concurrent ca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ICorProfilerCallback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ethods are passed I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Ds are memory addresses, but are treated as opaque hand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Support API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142480" cy="55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do we do with ID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e use another interface to turn them into more useful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CorProfilerCallback.Initializ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assed an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CorProfilerInf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terface (also defined in corprof.id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n be used to get names of assemblies and AppDomains and turn IDs to metadata toke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CorProfilerInf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as 33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member what I said about a Delphi hacker’s lif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gets worse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Support API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341360"/>
            <a:ext cx="8142480" cy="54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8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 track down class &amp; method names you need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another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inter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time it is part of the Unmanaged Metadata API: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MetaDataIm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is in cor.h and has 62 method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makes sense of metadata tokens and gives you na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2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relat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thods to 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asses to mod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dules to assembl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semblies to AppDom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more besi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Support API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142480" cy="46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other useful API family includes </a:t>
            </a: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CorDebug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and its associ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is lets you do in-process debugg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t can also be used for handy things like extracting a stack trace at any arbitrary 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e’re getting a bit ahead of ourselves here though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look at the type of events we h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ppDomain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32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ppDomainCreation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ppDomainCreation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AppDomainShutdown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AppDomainShutdown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appDomainI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arameter identifies the AppDom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ssembly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321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ssemblyLoad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ssemblyLoad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AssemblyUnload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AssemblyUnload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assemblyI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arameter identifies the assemb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Key Are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8142480" cy="54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bject orientation across all langu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ption handling across all langu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IT-compiled common intermediate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ype 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ersioned assembl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more “DLL Hell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ich common class libr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Module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38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ModuleLoad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ModuleLoad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ModuleUnload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ModuleUnload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ModuleAttachedToAssemb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moduleI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arameter identifies the mo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Class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28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ClassLoad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ClassLoad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ClassUnload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ClassUnload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classI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parameter identifies the cla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IT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0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ITCompilation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ITCompilation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ITFunctionPitc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ITInl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ITCachedFunctionSearchSta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ITCachedFunctionSearchFinis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unction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dentifies the meth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hread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22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ThreadCrea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ThreadDestroy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ThreadAssignedToOSThrea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read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dentifies the managed thr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nteroperability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UnmanagedToManagedTrans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ManagedToUnmanagedTrans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unction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dentifies the meth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COMClassicVTableCrea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COMClassicVTableDestroy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wrappedClass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dentifies the exposed cla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mplementedI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ives the I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C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MovedRefer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jects moved after G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bjectsAllocatedBy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ummary of existing objects after G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bjectRefer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jects referenced by an ob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lled for each obj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RootRefer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ist of all root refer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ception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490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Throw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thrownObject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dentifies the exce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SearchFunctionEn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SearchFunctionLe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n the hunt for a hand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SearchFilterEn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SearchFilterLe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ecking an exception filter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only in VB.NET, MC++ or I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ception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46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SearchCatcherFo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UnwindFunctionEn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UnwindFunctionLe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UnwindFinallyEn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UnwindFinallyLe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unction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dentifies the meth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CatcherEn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ceptionCatcherLe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Dem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814248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see a simple (sample) prof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Dem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814248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see a more interesting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Key Are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142480" cy="55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arbage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more dangling poin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more poin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more freeing ob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more (real) destruc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 more memory overwr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teroperability with unmanaged cod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n3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m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8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stribute objects as you lik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Issu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tricting to individual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cal variables in command promp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d code to check process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bugging profil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lphi’s local environment vari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unction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34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ICorProfilerInf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terface’s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EnterLeaveFunctionHook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ets you trace individual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 can write code to filter out uninteresting meth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You can even replace the code in a method with a new block of IL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Function Ev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se are a bit trickier than other ev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cs specify you implement events as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__declspec(naked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 C++ meaning no prolog/epilog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cs also state they must preserve used regis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is means writing a smattering of inline assembler in assembler-declared rout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er Demo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814248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see a method tracing prof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n exercise for the read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8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simple examples make no use of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ing of method exec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ching of extracted information about classes, methods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caching, care must be taken with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s moved by the G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hods which are pitched and re-JIT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 a bottleneck identif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 an exception analys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73360" y="178596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rian L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90840" y="2727360"/>
            <a:ext cx="604836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lphi &amp; .NET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rouble-shooter, trai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d wri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35880" y="4494240"/>
            <a:ext cx="32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://www.blong.co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ian@blong.co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4160" y="471240"/>
            <a:ext cx="8142120" cy="5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1069920"/>
            <a:ext cx="8067960" cy="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8142480" cy="51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l these .NET fundamentals are surfaced through the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Profiling AP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filing API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ramework SDK help file has scant mention (passing comment on one pag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uggestion is to use performance counters and PerfMon.ex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erformance counters are fine and numer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filing APIs are more flexi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filing API Event Are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142480" cy="54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Doma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ssembl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IT compilation &amp; method exec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rea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m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managed code interoper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arbage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8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ptions &amp; exception hand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Official Profiling Docum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142480" cy="43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ramework SDK subdirector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l Developers Guide\do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ey fil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filing.do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data Unmanaged API.do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bugRef.do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amples director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l Developers Guide\Samples\profi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official Docum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372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att Pietrek’s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Under The Hoo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olumn in MSDN Magazin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ember 2001,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The .NET Profiling API and the DNProfiler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ohn Robbins’ debugging boo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-262080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Debugging Applications for Microsoft</a:t>
            </a:r>
            <a:r>
              <a:rPr b="1" i="1" lang="en-GB" sz="2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 .NET and Microsoft Windows</a:t>
            </a:r>
            <a:r>
              <a:rPr b="1" i="1" lang="en-GB" sz="2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Microsoft Press, Chapters 10 &amp; 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Profil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3500280"/>
            <a:ext cx="814212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see some exa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Profil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3500280"/>
            <a:ext cx="814212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see some exa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22:52:42Z</dcterms:created>
  <dc:creator>Brian Long</dc:creator>
  <dc:description/>
  <dc:language>en-US</dc:language>
  <cp:lastModifiedBy>Brian Long</cp:lastModifiedBy>
  <cp:lastPrinted>1998-03-12T04:44:47Z</cp:lastPrinted>
  <dcterms:modified xsi:type="dcterms:W3CDTF">2003-11-13T15:01:59Z</dcterms:modified>
  <cp:revision>186</cp:revision>
  <dc:subject>Investigation of the little know Profiling API offered by .NET</dc:subject>
  <dc:title>.NET Internals: Profiling .NET Applications</dc:title>
</cp:coreProperties>
</file>